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D99-ECBF-4A7B-8155-8B3C13F5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55D-828A-4F59-8F34-A9874395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C45-8B0E-4713-AABC-3AC40642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058-8089-48C6-885D-D8297855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40E-F694-4242-9C49-766A76D7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20C-86AE-464A-80DB-D251B8AB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3D4-2E56-48AF-B5A4-7604B9A2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743-AB5D-458F-AC2B-FB1E3FD6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084-D171-4A6E-AFE0-ED36C58A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68D-26F5-49AE-A4A8-0C309DE5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427-9050-4271-91CA-5E83CDA0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B4E-F261-42AD-A883-2FEEC4B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12C7-70B4-43FF-8372-31EA96519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Allison 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 Pla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ations that slaves were forced to work on or be brutally punish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 people owned the plan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wner “owned” the slav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ces that they lived in were barely big enough to house every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o work such as: Picked crops, took care of livestock, cleaned houses, prepared food, waited on the family, and protected the plantation while owner was aw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rented out or borrowed to other peop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uys would work in the field and if you were trusted you could work in the masters house and babysitting his childr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their working condi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orking conditions were very hard and toug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orked for little to nothing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y were lucky and treated well they got two new outfits a y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soon as you could walk or carry things you were out wor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hard hours in the blazing sun or r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didn’t do something right the first time you were punished and then told to do it ag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got slav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ere brought overseas in cargo hold of ships and were given food and water once or twice a day if they were lucky. They rarely were able to come above unless to there destin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getting to the place where people “needed” them they were auctioned off for mone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sold at anytime and could be taken away from there families without ques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35:50Z</dcterms:created>
  <dc:creator>Holly Rose</dc:creator>
  <dc:description/>
  <dc:language>en-US</dc:language>
  <cp:lastModifiedBy>Owner</cp:lastModifiedBy>
  <dcterms:modified xsi:type="dcterms:W3CDTF">2010-10-22T00:10:06Z</dcterms:modified>
  <cp:revision>5</cp:revision>
  <dc:subject/>
  <dc:title>Slaves</dc:title>
</cp:coreProperties>
</file>